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10050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1816-440D-4A36-A86A-EF5B28C18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A9C5-F9AB-4B65-95CE-5AC145D9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BAD9-90BB-4433-9658-3C683194B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580E-DB48-4D64-A2B2-2B5AFA58E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DD1AB-FB54-4A9C-80EF-25DF78561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A3AA-566A-4F43-8522-4D6C589C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68ED-91E4-4AD7-A2B2-4F2DB02A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E88A-E537-415A-A7CD-3D758511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8464-1B0B-4F05-823E-10A40201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1218-4F92-4D20-9909-1088AC5A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9236-B050-4D10-BED6-ED513BA9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E0F1-3E6E-47B1-97B8-E6C424B7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4B6B-8B2A-46D5-9B94-3A38BCC4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994F-F94F-45CD-A379-D53F2F85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EE6EE-2DF9-464B-955D-D1976697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18B8-C002-4AA5-97E5-9F6C10EC9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7AE3-67BC-47D3-AF0E-FF92B7409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008E-736B-4F00-A480-6282C062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2883-0A54-4D2A-ABA7-CD688E49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0916-10EB-476D-974C-6D27F5D2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ECBB-3237-4566-92AA-E1645781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D199-6C0D-4DC9-86D3-B27517FD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6735-9B59-4B72-934E-05CA97B4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9300-D04E-4152-8789-B014CE37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C79B-8D52-4A81-A04D-975618B0FF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3D36-10D3-47BE-86F6-762E441FDA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8640" y="226188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ahoma"/>
              </a:rPr>
              <a:t>Marshall Sahlins - Lá pensée Bougeoise - a sociedade ocidental enquanto cultura</a:t>
            </a:r>
            <a:endParaRPr b="0" lang="en-US" sz="4400" spc="-1" strike="noStrike">
              <a:solidFill>
                <a:srgbClr val="9966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276120"/>
            <a:ext cx="7772400" cy="62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Não se come o que se nomeia: Rainha de Copas (Alice no país das maravilhas): “Não é fino mandar cortar algúem a quem vc foi apresentado”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Diferença se o animal é sujeito ou objeto frente ao homem: cachorros têm personalidade, são companhia  X bois são animais de carga ou arado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Vísceras X Partes “Nobres” 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09640" y="2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996600"/>
                </a:solidFill>
                <a:latin typeface="Tahoma"/>
              </a:rPr>
              <a:t>Cachorros  X Cavalos X Porcos</a:t>
            </a:r>
            <a:endParaRPr b="0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03240" y="1722240"/>
            <a:ext cx="7772400" cy="47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ahoma"/>
              </a:rPr>
              <a:t>Entre cavalos e cachorros, os cachorros, como mais próximos, são mais tabu (incesto: são parte da família)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ahoma"/>
              </a:rPr>
              <a:t>Bois e porcos são objetos para o homem: mas como o porco é mais próximo (e come os restos das comidas humanas) que o boi, sua carne é mais desvalorizada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ahoma"/>
              </a:rPr>
              <a:t>A comestibilidade está inversamente relacionada com a humanidade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3600" y="298440"/>
            <a:ext cx="77724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996600"/>
                </a:solidFill>
                <a:latin typeface="Tahoma"/>
              </a:rPr>
              <a:t>Interiores X Exteriores</a:t>
            </a:r>
            <a:endParaRPr b="0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014480"/>
            <a:ext cx="7772400" cy="55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ahoma"/>
              </a:rPr>
              <a:t>Natureza orgânica da carne é disfarçada: filés, steakes, chão de fora, de dentro  X vísceras que são chamadas por seus nomes reais: coração, fígado, língua. Dentre os bifes, o de fígado é o mais desvalorizado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ahoma"/>
              </a:rPr>
              <a:t>A distinção entre “interior” e “exterior” duplica  no animal a diferenciação estabelecida entre espécies comestíveis e espécies tabu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ahoma"/>
              </a:rPr>
              <a:t>Nobert Elia/José Carlos Rodrigues: sensibilidade moderna desidentifica a carne para poder comê-la. Ela vem em formas de bifes, e não mais inteiro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235080"/>
            <a:ext cx="7772400" cy="58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i="1" lang="pt-BR" sz="2800" spc="-1" strike="noStrike">
                <a:solidFill>
                  <a:srgbClr val="ffff00"/>
                </a:solidFill>
                <a:latin typeface="Tahoma"/>
              </a:rPr>
              <a:t>Em nome do afastamento de tudo o que for orgânico, nossa sensibilidade atual determina que seja indispensável desidentificar o alimento, sobretudo carne, para que o possamos ingerir sem engulhos. Tal desidentificação deve ocorrer bem longe de nossas vistas, narizes e ouvidos, escondendo-se o sangue, o grito, o cheiro e a sujeira, por meio de atos segregados em bastidores da vida social, como matadouros, cozinhas e açougues. Cada vez mais, estes atos só podem ser realizados por pessoas que consideramos - talvez exatamente por esta razão - dotadas de um status inferior” (Rodrigues: pg 142)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235080"/>
            <a:ext cx="7772400" cy="63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ff00"/>
                </a:solidFill>
                <a:latin typeface="Tahoma"/>
              </a:rPr>
              <a:t>É o valor social que estabelece o valor econômico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923760" y="1920960"/>
            <a:ext cx="7677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800" spc="-1" strike="noStrike">
                <a:solidFill>
                  <a:srgbClr val="ccecff"/>
                </a:solidFill>
                <a:latin typeface="Times New Roman"/>
              </a:rPr>
              <a:t>“</a:t>
            </a:r>
            <a:r>
              <a:rPr b="0" i="1" lang="pt-BR" sz="4800" spc="-1" strike="noStrike">
                <a:solidFill>
                  <a:srgbClr val="ccecff"/>
                </a:solidFill>
                <a:latin typeface="Times New Roman"/>
              </a:rPr>
              <a:t>o filé continua a ser o peso mais caro, apesar da oferta absoluta de filé ser maior do que a de língua, há muito mais filé numa vaca do que língua” (Sahlins, pg 196)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87480" y="485280"/>
            <a:ext cx="681984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996600"/>
                </a:solidFill>
                <a:latin typeface="Tahoma"/>
              </a:rPr>
              <a:t>Totemismo moderno.</a:t>
            </a:r>
            <a:endParaRPr b="0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15720"/>
            <a:ext cx="7772400" cy="54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ahoma"/>
              </a:rPr>
              <a:t>Se é o valor de social que condiciona o valor econômico, é porque os objetos são revestidos de um </a:t>
            </a:r>
            <a:r>
              <a:rPr b="1" lang="pt-BR" sz="2800" spc="-1" strike="noStrike">
                <a:solidFill>
                  <a:srgbClr val="ffff00"/>
                </a:solidFill>
                <a:latin typeface="Tahoma"/>
              </a:rPr>
              <a:t>conteúdo simbólico</a:t>
            </a:r>
            <a:r>
              <a:rPr b="0" lang="pt-BR" sz="2800" spc="-1" strike="noStrike">
                <a:solidFill>
                  <a:srgbClr val="ffff00"/>
                </a:solidFill>
                <a:latin typeface="Tahoma"/>
              </a:rPr>
              <a:t>, tal como ocorre no totemismo: o esquema simbólico da comestibilidade alia-se com as relações de produção.  </a:t>
            </a:r>
            <a:r>
              <a:rPr b="1" lang="pt-BR" sz="2800" spc="-1" strike="noStrike">
                <a:solidFill>
                  <a:srgbClr val="ffff00"/>
                </a:solidFill>
                <a:latin typeface="Tahoma"/>
              </a:rPr>
              <a:t>Une em uma série paralela de diferenças o </a:t>
            </a:r>
            <a:r>
              <a:rPr b="1" i="1" lang="pt-BR" sz="2800" spc="-1" strike="noStrike">
                <a:solidFill>
                  <a:srgbClr val="ffff00"/>
                </a:solidFill>
                <a:latin typeface="Tahoma"/>
              </a:rPr>
              <a:t>status</a:t>
            </a:r>
            <a:r>
              <a:rPr b="1" lang="pt-BR" sz="2800" spc="-1" strike="noStrike">
                <a:solidFill>
                  <a:srgbClr val="ffff00"/>
                </a:solidFill>
                <a:latin typeface="Tahoma"/>
              </a:rPr>
              <a:t> da pessoa e o que ela come ou veste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ahoma"/>
              </a:rPr>
              <a:t>Espécies e variedades  de objetos manufaturados , que como categorias totêmicas, tem o poder de fazer demarcações de seus proprietários individuais, hierarquizando-os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49320" y="184320"/>
            <a:ext cx="777240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996600"/>
                </a:solidFill>
                <a:latin typeface="Tahoma"/>
              </a:rPr>
              <a:t>Consumo e simbolismo.</a:t>
            </a:r>
            <a:endParaRPr b="0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41440" y="1216080"/>
            <a:ext cx="8378640" cy="53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ahoma"/>
              </a:rPr>
              <a:t>O </a:t>
            </a:r>
            <a:r>
              <a:rPr b="0" lang="pt-BR" sz="2800" spc="-1" strike="noStrike" u="sng">
                <a:solidFill>
                  <a:srgbClr val="ffff00"/>
                </a:solidFill>
                <a:uFillTx/>
                <a:latin typeface="Tahoma"/>
              </a:rPr>
              <a:t>consumo</a:t>
            </a:r>
            <a:r>
              <a:rPr b="0" lang="pt-BR" sz="2800" spc="-1" strike="noStrike">
                <a:solidFill>
                  <a:srgbClr val="ffff00"/>
                </a:solidFill>
                <a:latin typeface="Tahoma"/>
              </a:rPr>
              <a:t> é uma </a:t>
            </a:r>
            <a:r>
              <a:rPr b="0" lang="pt-BR" sz="2800" spc="-1" strike="noStrike" u="sng">
                <a:solidFill>
                  <a:srgbClr val="ffff00"/>
                </a:solidFill>
                <a:uFillTx/>
                <a:latin typeface="Tahoma"/>
              </a:rPr>
              <a:t>troca de significados</a:t>
            </a:r>
            <a:r>
              <a:rPr b="0" lang="pt-BR" sz="2800" spc="-1" strike="noStrike">
                <a:solidFill>
                  <a:srgbClr val="ffff00"/>
                </a:solidFill>
                <a:latin typeface="Tahoma"/>
              </a:rPr>
              <a:t>, cuja utilidade vem a posteriori. Primeiro ele é o símbolo, a demonstração ou ostentação de algúm valor. Ex: celular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Tahoma"/>
              </a:rPr>
              <a:t>Ao dar feitio a um objeto, a produção sedimenta um pensamento: </a:t>
            </a:r>
            <a:r>
              <a:rPr b="0" lang="pt-BR" sz="2800" spc="-1" strike="noStrike">
                <a:solidFill>
                  <a:srgbClr val="ffff00"/>
                </a:solidFill>
                <a:latin typeface="Tahoma"/>
              </a:rPr>
              <a:t>é o homem falando do homem usando as coisas como meio de comunicação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538200"/>
            <a:ext cx="7772400" cy="55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ahoma"/>
              </a:rPr>
              <a:t>A racionalidade de mercado, ao invés de  negar o totemismo moderno, o incentiva. Suas significações sociais baseiam-se no </a:t>
            </a:r>
            <a:r>
              <a:rPr b="1" lang="pt-BR" sz="2800" spc="-1" strike="noStrike">
                <a:solidFill>
                  <a:srgbClr val="ffff00"/>
                </a:solidFill>
                <a:latin typeface="Tahoma"/>
              </a:rPr>
              <a:t>contraste: sinais diacríticos</a:t>
            </a:r>
            <a:r>
              <a:rPr b="0" lang="pt-BR" sz="28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pt-BR" sz="2800" spc="-1" strike="noStrike">
                <a:solidFill>
                  <a:srgbClr val="ffff00"/>
                </a:solidFill>
                <a:latin typeface="Tahoma"/>
              </a:rPr>
              <a:t>substituído por espécies e variedades de objetos manufaturados, os quais, como categorias totêmicas têm o poder de fazer mesmo da demarcação de seus proprietários individuais um procedimento de classificação social”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ahoma"/>
              </a:rPr>
              <a:t>Berger (2006): corpo magro, malhado e musculoso como operador totêmico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01800" y="236160"/>
            <a:ext cx="7772400" cy="33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Tahoma"/>
              </a:rPr>
              <a:t>Os bens ficam como um código-objeto para a significação e avaliação de pessoas. 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708120" y="3538440"/>
            <a:ext cx="7657920" cy="2104920"/>
          </a:xfrm>
          <a:prstGeom prst="rect">
            <a:avLst/>
          </a:prstGeom>
          <a:solidFill>
            <a:srgbClr val="fcfdc6"/>
          </a:solidFill>
          <a:ln w="9360">
            <a:solidFill>
              <a:srgbClr val="ccecff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A produção é a reprodução da cultura num sistema de objetos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80920" y="339480"/>
            <a:ext cx="777240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996600"/>
                </a:solidFill>
                <a:latin typeface="Tahoma"/>
              </a:rPr>
              <a:t>Sistema de vestuário</a:t>
            </a:r>
            <a:endParaRPr b="0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023840"/>
            <a:ext cx="822024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ahoma"/>
              </a:rPr>
              <a:t>O sistema americano de vestuário corresponde a um esquema muito complexo de de categorias sociais e de relações entre elas, um mapa do universo cultural:[Mec/Unisa]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ahoma"/>
              </a:rPr>
              <a:t>Roland Barthes: identificou 60 focos de significação nos vestidos femininos. È como uma sintaxe, com regras específicas de combinação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ahoma"/>
              </a:rPr>
              <a:t>Séries de diferenças concretas entre objetos da mesma classe aos quais correspondem distinções culturais: operário (blue collar) do trabalhor do escritório (withe color)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996600"/>
                </a:solidFill>
                <a:latin typeface="Tahoma"/>
              </a:rPr>
              <a:t>O Autor</a:t>
            </a:r>
            <a:endParaRPr b="0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Nascido em 1930, americano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Doutor em antropologia e leciona na Universidade de Chicago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Principais obras: </a:t>
            </a:r>
            <a:r>
              <a:rPr b="0" lang="pt-BR" sz="3200" spc="-1" strike="noStrike" u="sng">
                <a:solidFill>
                  <a:srgbClr val="ffff00"/>
                </a:solidFill>
                <a:uFillTx/>
                <a:latin typeface="Tahoma"/>
              </a:rPr>
              <a:t>Cultura e Razão Prática, Ilhas de História, Cosmologias do Capitalismo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ahoma"/>
              </a:rPr>
              <a:t>Ver discussão Marvin Harris (</a:t>
            </a:r>
            <a:r>
              <a:rPr b="0" lang="pt-BR" sz="2400" spc="-1" strike="noStrike" u="sng">
                <a:solidFill>
                  <a:srgbClr val="ffff00"/>
                </a:solidFill>
                <a:uFillTx/>
                <a:latin typeface="Tahoma"/>
              </a:rPr>
              <a:t>Vacas, Porcos, Guerras e Bruxas: os enigmas da cultura</a:t>
            </a:r>
            <a:r>
              <a:rPr b="0" lang="pt-BR" sz="2400" spc="-1" strike="noStrike">
                <a:solidFill>
                  <a:srgbClr val="ffff00"/>
                </a:solidFill>
                <a:latin typeface="Tahoma"/>
              </a:rPr>
              <a:t>) X Mary Douglas (</a:t>
            </a:r>
            <a:r>
              <a:rPr b="0" lang="pt-BR" sz="2400" spc="-1" strike="noStrike" u="sng">
                <a:solidFill>
                  <a:srgbClr val="ffff00"/>
                </a:solidFill>
                <a:uFillTx/>
                <a:latin typeface="Tahoma"/>
              </a:rPr>
              <a:t>Pureza e Perigo</a:t>
            </a:r>
            <a:r>
              <a:rPr b="0" lang="pt-BR" sz="24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440" y="-360"/>
            <a:ext cx="8247240" cy="66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Item para o dia  ou para a , para usar em casa ou na rua: 1) refletem tipos de espaço e de tempo que classificam situações ou atividades, 2) refletem tipos de status aos quais as pessoas pertencem </a:t>
            </a:r>
            <a:r>
              <a:rPr b="0" lang="pt-BR" sz="32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</a:t>
            </a: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pt-BR" sz="3200" spc="-1" strike="noStrike">
                <a:solidFill>
                  <a:srgbClr val="ffff00"/>
                </a:solidFill>
                <a:latin typeface="Tahoma"/>
              </a:rPr>
              <a:t>“coordenadas nocionais”</a:t>
            </a: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 do vestuário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ahoma"/>
              </a:rPr>
              <a:t>Diferenciação do espaço cultural como o que se dá entre cidade  e campo, e dentro da cidade, entre o centro e os bairros residenciais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ahoma"/>
              </a:rPr>
              <a:t>Roupas de Domingo  estão para as roupas de dia da semana como o sagrado está sobre o profano [Ver Robert Hertz]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770040"/>
            <a:ext cx="777240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ahoma"/>
              </a:rPr>
              <a:t>Consubstancialidade entre sujeito e objetos </a:t>
            </a: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</a:t>
            </a: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 a seda é feminina e as mulheres são sedosa X masculinidade da lã X inferioridade do algodão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Evocações e simbolizações de idade, gênero, classe e cor da pele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Subdivisões das divisões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99760" y="261720"/>
            <a:ext cx="8543880" cy="62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Duas regularidades do sistema de vestuário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1) Regra de</a:t>
            </a:r>
            <a:r>
              <a:rPr b="1" lang="pt-BR" sz="3200" spc="-1" strike="noStrike">
                <a:solidFill>
                  <a:srgbClr val="ffff00"/>
                </a:solidFill>
                <a:latin typeface="Tahoma"/>
              </a:rPr>
              <a:t> Correspondência cerimonial</a:t>
            </a: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: Diferenciação análoga de roupa em quaisquer de duas classes funcionais ordenadas similarmente na oposição entre cerimônia e trabalho </a:t>
            </a:r>
            <a:r>
              <a:rPr b="0" lang="pt-BR" sz="2800" spc="-1" strike="noStrike">
                <a:solidFill>
                  <a:srgbClr val="ffff00"/>
                </a:solidFill>
                <a:latin typeface="Tahoma"/>
              </a:rPr>
              <a:t>(as roupas marcadas de quaisquer de duas classes se parecem entre si por uma diferenciação análoga em relação ás roupas não marcadas de suas respectivas classes);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2) Regra do </a:t>
            </a:r>
            <a:r>
              <a:rPr b="1" lang="pt-BR" sz="3200" spc="-1" strike="noStrike">
                <a:solidFill>
                  <a:srgbClr val="ffff00"/>
                </a:solidFill>
                <a:latin typeface="Tahoma"/>
              </a:rPr>
              <a:t>exagero cerimon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637480" cy="24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996600"/>
                </a:solidFill>
                <a:latin typeface="Tahoma"/>
              </a:rPr>
              <a:t>Quais as explicações </a:t>
            </a:r>
            <a:r>
              <a:rPr b="1" lang="pt-BR" sz="4400" spc="-1" strike="noStrike">
                <a:solidFill>
                  <a:srgbClr val="996600"/>
                </a:solidFill>
                <a:latin typeface="Tahoma"/>
              </a:rPr>
              <a:t>teóricas</a:t>
            </a:r>
            <a:r>
              <a:rPr b="0" lang="pt-BR" sz="4400" spc="-1" strike="noStrike">
                <a:solidFill>
                  <a:srgbClr val="996600"/>
                </a:solidFill>
                <a:latin typeface="Tahoma"/>
              </a:rPr>
              <a:t> para a produção como um modo de vida? (Marx)</a:t>
            </a:r>
            <a:endParaRPr b="0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0120" y="3047760"/>
            <a:ext cx="829152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Determinar os </a:t>
            </a:r>
            <a:r>
              <a:rPr b="1" lang="pt-BR" sz="3200" spc="-1" strike="noStrike">
                <a:solidFill>
                  <a:srgbClr val="ffff00"/>
                </a:solidFill>
                <a:latin typeface="Tahoma"/>
              </a:rPr>
              <a:t>contrastes distintivos mínimos</a:t>
            </a: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 nas características dos objetos (linha, cor, textura) que significam diferença de significado social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ffff00"/>
                </a:solidFill>
                <a:uFillTx/>
                <a:latin typeface="Tahoma"/>
              </a:rPr>
              <a:t>Unidades significativas elementares</a:t>
            </a: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: remete á Lévi-Strauss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996600"/>
                </a:solidFill>
                <a:latin typeface="Tahoma"/>
              </a:rPr>
              <a:t>Características elementares </a:t>
            </a:r>
            <a:br>
              <a:rPr sz="4400"/>
            </a:br>
            <a:endParaRPr b="0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11200" y="1797120"/>
            <a:ext cx="8458200" cy="2958840"/>
            <a:chOff x="511200" y="1797120"/>
            <a:chExt cx="8458200" cy="2958840"/>
          </a:xfrm>
        </p:grpSpPr>
        <p:sp>
          <p:nvSpPr>
            <p:cNvPr id="121" name=""/>
            <p:cNvSpPr/>
            <p:nvPr/>
          </p:nvSpPr>
          <p:spPr>
            <a:xfrm>
              <a:off x="511200" y="1797120"/>
              <a:ext cx="8458200" cy="3682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00"/>
                  </a:solidFill>
                  <a:latin typeface="Times New Roman"/>
                </a:rPr>
                <a:t>Gênero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1200" y="2254320"/>
              <a:ext cx="4191480" cy="3682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00"/>
                  </a:solidFill>
                  <a:latin typeface="Times New Roman"/>
                </a:rPr>
                <a:t>Homens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702680" y="2254320"/>
              <a:ext cx="4266360" cy="3682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00"/>
                  </a:solidFill>
                  <a:latin typeface="Times New Roman"/>
                </a:rPr>
                <a:t>Mulheres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1200" y="2711520"/>
              <a:ext cx="4191480" cy="64260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00"/>
                  </a:solidFill>
                  <a:latin typeface="Times New Roman"/>
                </a:rPr>
                <a:t>Fazenda grosseira, dura e pesada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00"/>
                  </a:solidFill>
                  <a:latin typeface="Times New Roman"/>
                </a:rPr>
                <a:t>cores escuras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1200" y="3549600"/>
              <a:ext cx="4191480" cy="64260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00"/>
                  </a:solidFill>
                  <a:latin typeface="Times New Roman"/>
                </a:rPr>
                <a:t>Linhas quadradas, com ângulos e cantos.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00"/>
                  </a:solidFill>
                  <a:latin typeface="Times New Roman"/>
                </a:rPr>
                <a:t>Calça jeans masculina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1200" y="4387680"/>
              <a:ext cx="4191480" cy="3682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00"/>
                  </a:solidFill>
                  <a:latin typeface="Times New Roman"/>
                </a:rPr>
                <a:t>Mangas  talhadas que cobrem todo o braço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02680" y="2711520"/>
              <a:ext cx="4266360" cy="64260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00"/>
                  </a:solidFill>
                  <a:latin typeface="Times New Roman"/>
                </a:rPr>
                <a:t>Macia, fina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00"/>
                  </a:solidFill>
                  <a:latin typeface="Times New Roman"/>
                </a:rPr>
                <a:t>cores pastel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702680" y="3549600"/>
              <a:ext cx="4266360" cy="9169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00"/>
                  </a:solidFill>
                  <a:latin typeface="Times New Roman"/>
                </a:rPr>
                <a:t>Enfatizam as curvas, os arredondamentos, a fluidez.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02680" y="4387680"/>
              <a:ext cx="4266360" cy="3682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ff00"/>
                  </a:solidFill>
                  <a:latin typeface="Times New Roman"/>
                </a:rPr>
                <a:t>Mangas 3/4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1355760" y="5311800"/>
            <a:ext cx="738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ecff"/>
                </a:solidFill>
                <a:latin typeface="Times New Roman"/>
              </a:rPr>
              <a:t>“</a:t>
            </a:r>
            <a:r>
              <a:rPr b="0" lang="pt-BR" sz="2400" spc="-1" strike="noStrike">
                <a:solidFill>
                  <a:srgbClr val="ccecff"/>
                </a:solidFill>
                <a:latin typeface="Times New Roman"/>
              </a:rPr>
              <a:t>vestemas” ou “unidades componentes elementares: componentes binários entre os significante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891540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996600"/>
                </a:solidFill>
                <a:latin typeface="Tahoma"/>
              </a:rPr>
              <a:t>Características elementares: estruturas mínimas de significado</a:t>
            </a:r>
            <a:endParaRPr b="0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2720" y="2124000"/>
            <a:ext cx="8277120" cy="42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Diferenças objetivas imediatamente observáveis e socialmente significante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As linhas estruturais no corte ou no modelo da roupa formam uma classe análoga de contrastes significativos. A significação parece estar relacionada com a direção, a forma e o ritmo da linha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65280" y="178920"/>
            <a:ext cx="8478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996600"/>
                </a:solidFill>
                <a:latin typeface="Tahoma"/>
              </a:rPr>
              <a:t>Onde repousam as estruturas mínimas?</a:t>
            </a:r>
            <a:endParaRPr b="0" lang="en-US" sz="36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645920"/>
            <a:ext cx="8458200" cy="43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ahoma"/>
              </a:rPr>
              <a:t>Como se chega da característica do objeto da UCE (por exemplo, reto/curvo) à sua </a:t>
            </a:r>
            <a:r>
              <a:rPr b="1" lang="pt-BR" sz="2800" spc="-1" strike="noStrike">
                <a:solidFill>
                  <a:srgbClr val="ffff00"/>
                </a:solidFill>
                <a:latin typeface="Tahoma"/>
              </a:rPr>
              <a:t>significação </a:t>
            </a:r>
            <a:r>
              <a:rPr b="0" lang="pt-BR" sz="2800" spc="-1" strike="noStrike">
                <a:solidFill>
                  <a:srgbClr val="ffff00"/>
                </a:solidFill>
                <a:latin typeface="Tahoma"/>
              </a:rPr>
              <a:t>cultural?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ahoma"/>
              </a:rPr>
              <a:t>O significado não é um ícone evidente em si mesmo, imanente ao signo; o processo mental é algo mais que uma associação de semelhanças presentes no sentido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74600" y="606240"/>
            <a:ext cx="77724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ahoma"/>
              </a:rPr>
              <a:t>Refere-se á natureza, mas como </a:t>
            </a:r>
            <a:r>
              <a:rPr b="1" lang="pt-BR" sz="2800" spc="-1" strike="noStrike">
                <a:solidFill>
                  <a:srgbClr val="ffff00"/>
                </a:solidFill>
                <a:latin typeface="Tahoma"/>
              </a:rPr>
              <a:t>apropriação simbólica da </a:t>
            </a:r>
            <a:r>
              <a:rPr b="0" lang="pt-BR" sz="2800" spc="-1" strike="noStrike">
                <a:solidFill>
                  <a:srgbClr val="ffff00"/>
                </a:solidFill>
                <a:latin typeface="Tahoma"/>
              </a:rPr>
              <a:t>natureza </a:t>
            </a: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</a:t>
            </a: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  Marx: a natureza rigidamente separada do homem não existe para o homem: somos naturalmente culturais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ahoma"/>
              </a:rPr>
              <a:t>Percepção </a:t>
            </a: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</a:t>
            </a: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  pg 218: as relações que subsistem entre significados culturais corresponderão formalmente às relações entre matizes estabelecidos na </a:t>
            </a:r>
            <a:r>
              <a:rPr b="1" lang="pt-BR" sz="3200" spc="-1" strike="noStrike">
                <a:solidFill>
                  <a:srgbClr val="ffff00"/>
                </a:solidFill>
                <a:latin typeface="Tahoma"/>
              </a:rPr>
              <a:t>percepção</a:t>
            </a: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pt-BR" sz="32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</a:t>
            </a: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 repousam no </a:t>
            </a:r>
            <a:r>
              <a:rPr b="1" lang="pt-BR" sz="3200" spc="-1" strike="noStrike">
                <a:solidFill>
                  <a:srgbClr val="ffff00"/>
                </a:solidFill>
                <a:latin typeface="Tahoma"/>
              </a:rPr>
              <a:t>inconsciente</a:t>
            </a: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874800" y="47772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ahoma"/>
              </a:rPr>
              <a:t>Objetivo do texto: explicar culturalmente a produção econômica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ahoma"/>
              </a:rPr>
              <a:t>Mostrar que a produção e o consumo são a </a:t>
            </a:r>
            <a:r>
              <a:rPr b="1" lang="pt-BR" sz="2400" spc="-1" strike="noStrike">
                <a:solidFill>
                  <a:srgbClr val="ffff00"/>
                </a:solidFill>
                <a:latin typeface="Tahoma"/>
              </a:rPr>
              <a:t>realização de um esquema simbólico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ahoma"/>
              </a:rPr>
              <a:t>Para isso, ele vai analisar principalmente  a relação dos americanos com a comida e com a moda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ahoma"/>
              </a:rPr>
              <a:t>Questão de fundo: romper com abordagens puramente utilitaristas, que explicam o consumo e a produção somente por seus aspectos práticos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ahoma"/>
              </a:rPr>
              <a:t>Repensar inclusive o materialismo histórico, desfocando a atenção da necessidade para a questão das </a:t>
            </a:r>
            <a:r>
              <a:rPr b="1" lang="pt-BR" sz="2400" spc="-1" strike="noStrike">
                <a:solidFill>
                  <a:srgbClr val="ffff00"/>
                </a:solidFill>
                <a:latin typeface="Tahoma"/>
              </a:rPr>
              <a:t>escolhas simbólica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55480" y="264600"/>
            <a:ext cx="7772400" cy="60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ahoma"/>
              </a:rPr>
              <a:t>O utilitarismo é a maneira pela qual a economia ocidental se experimenta: a busca pelo produto mais útil, mais moderno (relação entre utilidade e preço)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ahoma"/>
              </a:rPr>
              <a:t>Mas o esquema “racional”, “objetivo” de uma sociedade nunca é o único possível. Mesmo em condições materiais muito semelhantes, as ordens e finalidades culturais podem ser muito diferentes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ahoma"/>
              </a:rPr>
              <a:t>Os homens não sobrevivem simplesmente, eles sobrevivem de uma</a:t>
            </a:r>
            <a:r>
              <a:rPr b="1" lang="pt-BR" sz="2800" spc="-1" strike="noStrike">
                <a:solidFill>
                  <a:srgbClr val="ffff00"/>
                </a:solidFill>
                <a:latin typeface="Tahoma"/>
              </a:rPr>
              <a:t> maneira específica</a:t>
            </a:r>
            <a:r>
              <a:rPr b="0" lang="pt-BR" sz="28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71480" y="1374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10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00"/>
                </a:solidFill>
                <a:latin typeface="Tahoma"/>
              </a:rPr>
              <a:t>Ex: calça para homens, saia para as mulheres. Isto é  resultado não das características dos produtos em si, mas das relações de gênero (relações da ordem do social)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844560" y="480960"/>
            <a:ext cx="7772400" cy="37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ahoma"/>
              </a:rPr>
              <a:t>Os </a:t>
            </a:r>
            <a:r>
              <a:rPr b="1" lang="pt-BR" sz="2800" spc="-1" strike="noStrike">
                <a:solidFill>
                  <a:srgbClr val="ffff00"/>
                </a:solidFill>
                <a:latin typeface="Tahoma"/>
              </a:rPr>
              <a:t>sentidos</a:t>
            </a:r>
            <a:r>
              <a:rPr b="0" lang="pt-BR" sz="2800" spc="-1" strike="noStrike">
                <a:solidFill>
                  <a:srgbClr val="ffff00"/>
                </a:solidFill>
                <a:latin typeface="Tahoma"/>
              </a:rPr>
              <a:t> dos bens são sempre </a:t>
            </a:r>
            <a:r>
              <a:rPr b="1" lang="pt-BR" sz="2800" spc="-1" strike="noStrike">
                <a:solidFill>
                  <a:srgbClr val="ffff00"/>
                </a:solidFill>
                <a:latin typeface="Tahoma"/>
              </a:rPr>
              <a:t>sócio-culturais</a:t>
            </a:r>
            <a:r>
              <a:rPr b="0" lang="pt-BR" sz="2800" spc="-1" strike="noStrike">
                <a:solidFill>
                  <a:srgbClr val="ffff00"/>
                </a:solidFill>
                <a:latin typeface="Tahoma"/>
              </a:rPr>
              <a:t>. Mesmo quando a produção é governada pela mercadoria e velo valor de troca, ela continua como produção de valores de uso: há um </a:t>
            </a:r>
            <a:r>
              <a:rPr b="1" lang="pt-BR" sz="2800" spc="-1" strike="noStrike">
                <a:solidFill>
                  <a:srgbClr val="ffff00"/>
                </a:solidFill>
                <a:latin typeface="Tahoma"/>
              </a:rPr>
              <a:t>sujeito</a:t>
            </a:r>
            <a:r>
              <a:rPr b="0" lang="pt-BR" sz="2800" spc="-1" strike="noStrike">
                <a:solidFill>
                  <a:srgbClr val="ffff00"/>
                </a:solidFill>
                <a:latin typeface="Tahoma"/>
              </a:rPr>
              <a:t> que consome e o faz de modo bem específico: estilos, gostos, representações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592200" y="4689360"/>
            <a:ext cx="83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ecff"/>
                </a:solidFill>
                <a:latin typeface="Times New Roman"/>
              </a:rPr>
              <a:t>A produção é uma intenção cultural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821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996600"/>
                </a:solidFill>
                <a:latin typeface="Tahoma"/>
              </a:rPr>
              <a:t>Preferências de comida  e o tabu nos animais domésticos</a:t>
            </a:r>
            <a:endParaRPr b="0" lang="en-US" sz="36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12280" y="1504800"/>
            <a:ext cx="84582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ahoma"/>
              </a:rPr>
              <a:t>Razão cultural por trás dos nossos hábitos alimentares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ahoma"/>
              </a:rPr>
              <a:t>Não só do ponto de vista do consumo, mas da </a:t>
            </a:r>
            <a:r>
              <a:rPr b="0" lang="pt-BR" sz="2800" spc="-1" strike="noStrike" u="sng">
                <a:solidFill>
                  <a:srgbClr val="ffff00"/>
                </a:solidFill>
                <a:uFillTx/>
                <a:latin typeface="Tahoma"/>
              </a:rPr>
              <a:t>produção</a:t>
            </a:r>
            <a:r>
              <a:rPr b="0" lang="pt-BR" sz="2800" spc="-1" strike="noStrike">
                <a:solidFill>
                  <a:srgbClr val="ffff00"/>
                </a:solidFill>
                <a:latin typeface="Tahoma"/>
              </a:rPr>
              <a:t>: o fato dos americanos adotarem a carne de boi como alimento preferencial influi na relação com a agricultura, com os mercados mundiais.  O próprio mercado se modificaria se passássemos a comer cachorro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ahoma"/>
              </a:rPr>
              <a:t>Tabu sobre o consumo de cavalos e cachorros, que do ponto de vista prático, poderiam ser consumidos (como são na China)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4640" y="299880"/>
            <a:ext cx="873936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996600"/>
                </a:solidFill>
                <a:latin typeface="Tahoma"/>
              </a:rPr>
              <a:t>Cachorros e Cavalos X Bois/Vacas/Porcos</a:t>
            </a:r>
            <a:endParaRPr b="0" lang="en-US" sz="36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30040"/>
            <a:ext cx="7772400" cy="54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ahoma"/>
              </a:rPr>
              <a:t>América é a terra do cão sagrado (um balinês ficaria pasmado - lá os cachorros são tratados com uma crueldade fóbica)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ahoma"/>
              </a:rPr>
              <a:t>Uma excursão a pé pelas ruas de NY faz uma caminhada pelos pastos do meio-oeste parecer um passeio idílico pelo campo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ahoma"/>
              </a:rPr>
              <a:t>Cães dormem nas cadeiras/camas feitas para humanos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ahoma"/>
              </a:rPr>
              <a:t>Quanto ao cavalo, suspeita-se que seja comestível, mas os americanos tem horror a idéia:  cavalo é símbolo de virilidade, liberdade (cauboy)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996600"/>
                </a:solidFill>
                <a:latin typeface="Tahoma"/>
              </a:rPr>
              <a:t>Espécies boas para comer, pensar e...amar</a:t>
            </a:r>
            <a:endParaRPr b="0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Malinowski X Lévi-Strauss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ahoma"/>
              </a:rPr>
              <a:t>Relações</a:t>
            </a: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 das espécies com a </a:t>
            </a:r>
            <a:r>
              <a:rPr b="1" lang="pt-BR" sz="3200" spc="-1" strike="noStrike">
                <a:solidFill>
                  <a:srgbClr val="ffff00"/>
                </a:solidFill>
                <a:latin typeface="Tahoma"/>
              </a:rPr>
              <a:t>sociedade humana</a:t>
            </a: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 que explica seu grau de comestibilidade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Quanto maior a distância entre animais e homens, maior a comestibilidad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Quanto menor a distância: menor a comestibilidade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3T16:23:34Z</dcterms:created>
  <dc:creator>Mirela</dc:creator>
  <dc:description/>
  <dc:language>en-US</dc:language>
  <cp:lastModifiedBy>Mirela</cp:lastModifiedBy>
  <cp:lastPrinted>2007-05-02T21:33:41Z</cp:lastPrinted>
  <dcterms:modified xsi:type="dcterms:W3CDTF">2007-05-15T15:28:34Z</dcterms:modified>
  <cp:revision>17</cp:revision>
  <dc:subject/>
  <dc:title>Marshall Sahlins - Lá pensée Bougeoise - a sociedade ocidental enquanto cultura</dc:title>
</cp:coreProperties>
</file>